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0AB-31F2-45EC-90E2-BD583903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502-3D56-4F8D-939E-6437255F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C58B-95AC-4A9A-AA48-A2E85EED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B8A-28B7-4FFB-896D-D1B6D886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337-9AB8-405C-8358-569A8071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5EF-7341-430C-9FE9-C34516F9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4FC-90E2-4A11-B614-2C677487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E360-12B0-444F-843C-5B8883E8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FF3-879A-43EC-90B5-6A71097D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58B-06A1-4D89-A123-418AD0E6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C1B-F70F-4E16-ABD5-627D9CCF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3D7-2F09-47E0-9622-EE04F7A9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5C2D-658C-44FB-90EF-8905738FAC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_FuturicaB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М"/>
          <p:cNvPicPr/>
          <p:nvPr/>
        </p:nvPicPr>
        <p:blipFill>
          <a:blip r:embed="rId1"/>
          <a:stretch/>
        </p:blipFill>
        <p:spPr>
          <a:xfrm>
            <a:off x="3887640" y="0"/>
            <a:ext cx="525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39243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GCenturion"/>
              </a:rPr>
              <a:t>Тема Родины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GCenturion"/>
              </a:rPr>
              <a:t> в творчест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bat"/>
              </a:rPr>
              <a:t>Михаила Юрьевича  Лермонтова</a:t>
            </a: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0" y="1071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292720" y="827280"/>
            <a:ext cx="34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_FuturicaBs"/>
              </a:rPr>
              <a:t>Стихотворение положило начало цело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_FuturicaBs"/>
              </a:rPr>
              <a:t>литературной традиции</a:t>
            </a:r>
            <a:r>
              <a:rPr b="0" lang="ru-RU" sz="2000" spc="-1" strike="noStrike">
                <a:solidFill>
                  <a:srgbClr val="000000"/>
                </a:solidFill>
                <a:latin typeface="a_FuturicaBs"/>
              </a:rPr>
              <a:t>. В русской поэзии утвердился жанр лирического раздумья о родине. Мысль о России стала нерасторжимой с образами деревни и природы. Лермонтов первым увидел берёзку как символ России </a:t>
            </a:r>
            <a:endParaRPr b="0" lang="en-US" sz="20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55640" y="522900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стихи Есенина, К.Симонова, Рубцова, обращают внимание на репродукции картин  Левитана, Куинджи </a:t>
            </a: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46544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0" y="1071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Над чем заставили задуматься стихи 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М.Ю. Лермонтова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и сегодняшний урок?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185e18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«</a:t>
            </a: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Люблю Отчизну я 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но странною любовью…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М. Ю. Лермо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4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4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Elizbarova\Рабочий стол\САВРАСОВ.jpg"/>
          <p:cNvPicPr/>
          <p:nvPr/>
        </p:nvPicPr>
        <p:blipFill>
          <a:blip r:embed="rId1"/>
          <a:stretch/>
        </p:blipFill>
        <p:spPr>
          <a:xfrm>
            <a:off x="0" y="0"/>
            <a:ext cx="4822920" cy="330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Elizbarova\Рабочий стол\savras-1.gif"/>
          <p:cNvPicPr/>
          <p:nvPr/>
        </p:nvPicPr>
        <p:blipFill>
          <a:blip r:embed="rId2"/>
          <a:stretch/>
        </p:blipFill>
        <p:spPr>
          <a:xfrm>
            <a:off x="4233960" y="3309840"/>
            <a:ext cx="4910040" cy="354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Elizbarova\Рабочий стол\саврасов2.jpg"/>
          <p:cNvPicPr/>
          <p:nvPr/>
        </p:nvPicPr>
        <p:blipFill>
          <a:blip r:embed="rId3"/>
          <a:stretch/>
        </p:blipFill>
        <p:spPr>
          <a:xfrm>
            <a:off x="5000760" y="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Elizbarova\Рабочий стол\саврасов 3.jpg"/>
          <p:cNvPicPr/>
          <p:nvPr/>
        </p:nvPicPr>
        <p:blipFill>
          <a:blip r:embed="rId4"/>
          <a:stretch/>
        </p:blipFill>
        <p:spPr>
          <a:xfrm>
            <a:off x="214200" y="3571920"/>
            <a:ext cx="3919680" cy="292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Elizbarova\Рабочий стол\шишкин.jpg"/>
          <p:cNvPicPr/>
          <p:nvPr/>
        </p:nvPicPr>
        <p:blipFill>
          <a:blip r:embed="rId1"/>
          <a:stretch/>
        </p:blipFill>
        <p:spPr>
          <a:xfrm>
            <a:off x="0" y="357120"/>
            <a:ext cx="4405320" cy="327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Elizbarova\Рабочий стол\shishkin.jpg"/>
          <p:cNvPicPr/>
          <p:nvPr/>
        </p:nvPicPr>
        <p:blipFill>
          <a:blip r:embed="rId2"/>
          <a:stretch/>
        </p:blipFill>
        <p:spPr>
          <a:xfrm>
            <a:off x="0" y="3786120"/>
            <a:ext cx="442908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Elizbarova\Рабочий стол\шишкин 2.jpg"/>
          <p:cNvPicPr/>
          <p:nvPr/>
        </p:nvPicPr>
        <p:blipFill>
          <a:blip r:embed="rId3"/>
          <a:stretch/>
        </p:blipFill>
        <p:spPr>
          <a:xfrm>
            <a:off x="4467240" y="0"/>
            <a:ext cx="46767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Какая из формулировок точно отраж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тему стихотворения «Родин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любви к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странности любви к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7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7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« З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еречитайте стихотворение М.Ю.Лермонтова «Родина». Какие детали деревенского быта присутствуют в стихотворении? Обведите их в кру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йдите слова, передающие краски и настроение. Подчеркните волнистой лин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следите за настроением поэта. Слова, подчеркивающие настроение выпишите на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йдите официальные патриотические понятия о Родине в стихотворении. Выделите эти образы в квадраты. Какое к ним отношение автора, подчеркните эту ф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акая из формулировок точно отражает тему стихотворения «Родин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Найдите в стихотворении композиционные элементы рассуждения тезис, доказательства, вывод. Выделите фразы (Т-Д-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«4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ы записываются в тетрадь (на выбор 2 задания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рисуйте кластер, который позволит увидеть композицию стихотворения (принцип Лермонтова – от широкого плана к узком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полните   таблицу примерами из стихотво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эпитеты, метафоры,сравнения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оворя о любви к  Родине, Лермонтов употребляет слово «странной». Почему свое чувство поэт сопровождает таким словосочет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Каждый стих  в первой строфе со второй сточки начинается с отрицательной частицы. Какое чувство усиливается эти повтором и в какой строке сформулировано это состояние геро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«5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  записать в тетрад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Найдите градацию в стихотворении «Родина» (можно обратиться к статье в учебнике на стр. 167, или вспомнить по программе русского язы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цо  морда хар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дивидуаль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Перечитайте статью в учебнике стр. 160-164. Просмотрите презентацию «Портреты М.Ю.Лермонтова». Найдите цитаты из статьи, иллюстрирующие душевное состояние поэта. изображенного на портр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 Перечитайте статью в учебнике стр. 160-164. Как вы думаете, почему не совпали впечатления о поэте у различных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 Рассмотрите портреты Лермонтова в лермонтовской энциклопедии. Какое из этих портретов больше подходит к стихотворению «Родина», аргументируйте сво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20:05:30Z</dcterms:created>
  <dc:creator>User</dc:creator>
  <dc:description/>
  <dc:language>en-US</dc:language>
  <cp:lastModifiedBy>Макаров</cp:lastModifiedBy>
  <dcterms:modified xsi:type="dcterms:W3CDTF">2012-12-03T05:06:41Z</dcterms:modified>
  <cp:revision>25</cp:revision>
  <dc:subject/>
  <dc:title>Тема Родины в творчестве   Михаила Юрьевича  Лермонтова</dc:title>
</cp:coreProperties>
</file>